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8044-EF2F-45C6-8B1F-E8184C61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B407-7374-4070-BEFD-0EF943D1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F32-4326-4F8F-A7A4-F96C6FD0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CB7-D542-45B0-9213-9071ADCA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CEA-D3B0-4E24-941C-4EBC64D9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EB0-9F8A-4C95-B26E-01216424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42B-5B6E-4D14-9600-7DC5F0F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2E4-CB91-4768-AF94-0A046574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F82-C9FA-4C25-8521-2455827E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13D-321E-43DA-A794-7530F99C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1EC-66CC-4538-B912-CF0CC17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08E-6FD5-44B3-926C-0AC3E85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118-F769-4226-96D1-DC952E2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EFC-44B2-4B10-B3B8-7DC4B955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45F6-3E47-4A08-8E27-42399339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 Yo y mis amigos tenemos padres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s amigos no tienen hermanos pero tengo 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admin</cp:lastModifiedBy>
  <dcterms:modified xsi:type="dcterms:W3CDTF">2013-01-03T01:52:18Z</dcterms:modified>
  <cp:revision>109</cp:revision>
  <dc:subject/>
  <dc:title>Profile</dc:title>
</cp:coreProperties>
</file>